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37D-A213-4151-9007-DB23A85D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8F8-1935-4172-8937-8F1C704B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114-44C0-4C6C-A691-CD819683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AC0-553C-497B-BE8F-6721EE1C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777-C0AA-493C-8774-34006E8C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554-8CDD-46A3-93F8-81577960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60A-6F07-4DF3-9489-C1E762C0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323-D2DF-42AC-BFEF-0E6C9C3B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9B0-58FA-4DA9-9F96-78687C99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20A-33CF-4308-AE5F-1E1EF91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E02-AF16-4ED0-B8DF-1A77BE45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FA3-9753-48EC-AD0E-90C38481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2844-0E29-41D5-ADB1-A73315467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uropean Computer Driving Licence Foundation Ltd.</dc:creator>
  <dc:description/>
  <dc:language>en-US</dc:language>
  <cp:lastModifiedBy>ECDL Foundation</cp:lastModifiedBy>
  <dcterms:modified xsi:type="dcterms:W3CDTF">2008-05-29T16:52:3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