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749-4784-4EA5-82DC-1F2444D4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FC7-7B85-4274-8AAA-B5A629D5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FBFD-DF23-4EDC-8875-5160A27E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FFC-26BE-40C0-9134-905CDD13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84A-2255-47C2-8C5C-7EF116F7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F2C-7540-4FEF-9034-9EF872B0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300-6841-405F-8950-9DBCB6A6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6CA-12AC-4F9C-91A5-5CE297E1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12E-D568-460B-81C9-43E3D76A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BCB-DDBF-4D65-B898-35DDEAFE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38D-B27C-48E2-B7E4-76187C53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386-33A1-4052-9456-00792970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E86D-D1C8-4C35-901F-9E308A65C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Consultation is 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ne stop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original inter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ing existing inter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Interiors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ssignment is too big or too s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47:02Z</dcterms:created>
  <dc:creator>European Computer Driving Licence Foundation Ltd.</dc:creator>
  <dc:description/>
  <dc:language>en-US</dc:language>
  <cp:lastModifiedBy>ECDL Foundation</cp:lastModifiedBy>
  <dcterms:modified xsi:type="dcterms:W3CDTF">2008-06-03T16:47:26Z</dcterms:modified>
  <cp:revision>2</cp:revision>
  <dc:subject/>
  <dc:title>Initial Consultation is Free</dc:title>
</cp:coreProperties>
</file>