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DE7-C9CF-4F47-96E2-EFD8D2CB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0CA-8F00-449F-9B45-CDB2F813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A22-F3EE-405B-B6DA-30A4590B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E1A-C733-4B8E-8F90-8CCD15C1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CF0F-67B7-4179-A489-CF8E4FB1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C21F-0391-410D-B6E5-F526DD67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D1D2-3558-403E-918C-2B7E546A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1656-F2C0-4DE3-ABC6-00440CC3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9CF0-C540-43D6-8112-B1B6D146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CB3E-8557-441D-8401-A4305D08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FE89-2D14-4EC4-9D15-1883B9FB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944-5184-42DA-9B73-E61451AF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9698-67B5-4B91-B765-DBE11C60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0568-883E-4C0C-9DD4-C9F09F2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7489-369F-4A4B-9E0F-461D51E4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5A8D-11C5-42B7-8B04-38E09F88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431D-12F6-41C8-A861-0F08C8AE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E91-E2DF-48C6-B42E-D5ED2FF0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CE6-6566-47EC-9390-EF61E807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4B3-694D-457D-8BC1-956AED83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FC8-789B-4E50-A5D7-6474B11E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BD2-C1EF-4025-8F60-B78B88DF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F02-BCEC-47CC-9963-596539AC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D07-E2E1-4B6D-A44F-00FA70B0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5BAC-A48C-4284-A828-1D5A883EE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Logo image"/>
          <p:cNvPicPr/>
          <p:nvPr/>
        </p:nvPicPr>
        <p:blipFill>
          <a:blip r:embed="rId2"/>
          <a:stretch/>
        </p:blipFill>
        <p:spPr>
          <a:xfrm>
            <a:off x="7375680" y="5062680"/>
            <a:ext cx="1768320" cy="17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2594-2F7D-4A24-9C2A-1759AB3EE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Bright Interior Design Compan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ceeding Expec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Building image"/>
          <p:cNvPicPr/>
          <p:nvPr/>
        </p:nvPicPr>
        <p:blipFill>
          <a:blip r:embed="rId1"/>
          <a:stretch/>
        </p:blipFill>
        <p:spPr>
          <a:xfrm>
            <a:off x="7736040" y="5450040"/>
            <a:ext cx="14079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the best design and décor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eding our clients expectations in all we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empo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nim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ign Te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1614600"/>
            <a:ext cx="8228880" cy="4494960"/>
            <a:chOff x="457200" y="1614600"/>
            <a:chExt cx="8228880" cy="4494960"/>
          </a:xfrm>
        </p:grpSpPr>
        <p:cxnSp>
          <p:nvCxnSpPr>
            <p:cNvPr id="221" name="_s7194"/>
            <p:cNvCxnSpPr>
              <a:stCxn id="222" idx="0"/>
              <a:endCxn id="223" idx="2"/>
            </p:cNvCxnSpPr>
            <p:nvPr/>
          </p:nvCxnSpPr>
          <p:spPr>
            <a:xfrm flipV="1">
              <a:off x="7451640" y="4883040"/>
              <a:ext cx="3240" cy="40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7192"/>
            <p:cNvCxnSpPr>
              <a:stCxn id="225" idx="3"/>
              <a:endCxn id="226" idx="2"/>
            </p:cNvCxnSpPr>
            <p:nvPr/>
          </p:nvCxnSpPr>
          <p:spPr>
            <a:xfrm flipV="1">
              <a:off x="4160160" y="2431440"/>
              <a:ext cx="411840" cy="81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7" name="_s7184"/>
            <p:cNvCxnSpPr>
              <a:stCxn id="228" idx="0"/>
              <a:endCxn id="229" idx="2"/>
            </p:cNvCxnSpPr>
            <p:nvPr/>
          </p:nvCxnSpPr>
          <p:spPr>
            <a:xfrm flipV="1">
              <a:off x="1690920" y="4883040"/>
              <a:ext cx="3240" cy="40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0" name="_s7182"/>
            <p:cNvCxnSpPr>
              <a:stCxn id="223" idx="0"/>
              <a:endCxn id="226" idx="2"/>
            </p:cNvCxnSpPr>
            <p:nvPr/>
          </p:nvCxnSpPr>
          <p:spPr>
            <a:xfrm flipV="1" rot="16200000">
              <a:off x="5194080" y="1808280"/>
              <a:ext cx="1635120" cy="2880720"/>
            </a:xfrm>
            <a:prstGeom prst="bentConnector3">
              <a:avLst>
                <a:gd name="adj1" fmla="val 69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7181"/>
            <p:cNvCxnSpPr>
              <a:stCxn id="232" idx="0"/>
              <a:endCxn id="226" idx="2"/>
            </p:cNvCxnSpPr>
            <p:nvPr/>
          </p:nvCxnSpPr>
          <p:spPr>
            <a:xfrm flipV="1">
              <a:off x="4571280" y="2431440"/>
              <a:ext cx="3240" cy="163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7180"/>
            <p:cNvCxnSpPr>
              <a:stCxn id="229" idx="0"/>
              <a:endCxn id="226" idx="2"/>
            </p:cNvCxnSpPr>
            <p:nvPr/>
          </p:nvCxnSpPr>
          <p:spPr>
            <a:xfrm flipH="1" flipV="1" rot="5400000">
              <a:off x="2313720" y="1808640"/>
              <a:ext cx="1635120" cy="2880720"/>
            </a:xfrm>
            <a:prstGeom prst="bentConnector3">
              <a:avLst>
                <a:gd name="adj1" fmla="val 69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6" name="_s7176"/>
            <p:cNvSpPr/>
            <p:nvPr/>
          </p:nvSpPr>
          <p:spPr>
            <a:xfrm>
              <a:off x="3337200" y="1614600"/>
              <a:ext cx="2468520" cy="81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ffffff"/>
                  </a:solidFill>
                  <a:latin typeface="Arial"/>
                </a:rPr>
                <a:t>Gilbert Wald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ffffff"/>
                  </a:solidFill>
                  <a:latin typeface="Arial"/>
                </a:rPr>
                <a:t>Managing Directo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7177"/>
            <p:cNvSpPr/>
            <p:nvPr/>
          </p:nvSpPr>
          <p:spPr>
            <a:xfrm>
              <a:off x="457200" y="4066560"/>
              <a:ext cx="2468520" cy="81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ffffff"/>
                  </a:solidFill>
                  <a:latin typeface="Arial"/>
                </a:rPr>
                <a:t>Catherine Wright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Senior Interior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sign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7178"/>
            <p:cNvSpPr/>
            <p:nvPr/>
          </p:nvSpPr>
          <p:spPr>
            <a:xfrm>
              <a:off x="3337200" y="4066560"/>
              <a:ext cx="2468520" cy="81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ffffff"/>
                  </a:solidFill>
                  <a:latin typeface="Arial"/>
                </a:rPr>
                <a:t>John Pullma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Interior Architect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7179"/>
            <p:cNvSpPr/>
            <p:nvPr/>
          </p:nvSpPr>
          <p:spPr>
            <a:xfrm>
              <a:off x="6217560" y="4066560"/>
              <a:ext cx="2468520" cy="81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ffffff"/>
                  </a:solidFill>
                  <a:latin typeface="Arial"/>
                </a:rPr>
                <a:t>Jane Murray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Project Manag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7183"/>
            <p:cNvSpPr/>
            <p:nvPr/>
          </p:nvSpPr>
          <p:spPr>
            <a:xfrm>
              <a:off x="457200" y="5292360"/>
              <a:ext cx="2468520" cy="81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Mary Gilmou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Assistant Interio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sign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7191"/>
            <p:cNvSpPr/>
            <p:nvPr/>
          </p:nvSpPr>
          <p:spPr>
            <a:xfrm>
              <a:off x="1691280" y="2840400"/>
              <a:ext cx="2468520" cy="81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ffffff"/>
                  </a:solidFill>
                  <a:latin typeface="Arial"/>
                </a:rPr>
                <a:t>Susan Park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100" spc="-1" strike="noStrike">
                  <a:solidFill>
                    <a:srgbClr val="ffffff"/>
                  </a:solidFill>
                  <a:latin typeface="Arial"/>
                </a:rPr>
                <a:t>Personal Assistant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7193"/>
            <p:cNvSpPr/>
            <p:nvPr/>
          </p:nvSpPr>
          <p:spPr>
            <a:xfrm>
              <a:off x="6217560" y="5292360"/>
              <a:ext cx="2468520" cy="813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Adam York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CAD Technicia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rior Design V Consultation (€M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Column chart with the heading Interior Design V Consultation (€M)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rv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ing or Décor Consul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ing and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ur Consol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work Consul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Design and Drafting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ing and Supp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ni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mps &amp; Lig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r Cov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room Fixtures &amp; Fi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tchen Fit Out Apple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work &amp; Wall Déc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rni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ly designed furni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 from a wide range of manufactu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Cafe Image"/>
          <p:cNvPicPr/>
          <p:nvPr/>
        </p:nvPicPr>
        <p:blipFill>
          <a:blip r:embed="rId1"/>
          <a:stretch/>
        </p:blipFill>
        <p:spPr>
          <a:xfrm>
            <a:off x="3809880" y="3581280"/>
            <a:ext cx="178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uropean Computer Driving Licence Foundation Ltd.</dc:creator>
  <dc:description/>
  <dc:language>en-US</dc:language>
  <cp:lastModifiedBy>ECDL Foundation</cp:lastModifiedBy>
  <dcterms:modified xsi:type="dcterms:W3CDTF">2008-06-03T17:23:2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