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54C-4059-4E87-BEE8-49A024C4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EC1-AA2B-4DC8-B178-BCA7A827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98D-B35D-41EC-BDAE-5E775877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8F6-AE3C-4A14-8C7A-41545C5E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C8E-C840-4878-B943-B36A4F4A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A43-C627-48BA-9272-D3A53643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C96-493A-4FB9-B07A-047D041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FE9-6F11-4064-BEC6-61B0187B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C7F-9B42-4DAB-A81F-A3B115E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918-72CD-4896-8103-A659DFAE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8CE-8C69-40C6-92C3-1B5BD045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2D6-C9AC-463D-9D88-86DDBC0F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2D32-B5E5-4471-860A-1AB31D0A8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CDL / ICDL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file Test 6.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ndidate Identification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920" y="1916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ECDL Foundation</cp:lastModifiedBy>
  <dcterms:modified xsi:type="dcterms:W3CDTF">2008-05-30T11:02:32Z</dcterms:modified>
  <cp:revision>58</cp:revision>
  <dc:subject/>
  <dc:title>Module 6 Answer File 6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