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613-865C-40A5-BC72-AF3FFC80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7C9-6520-44F5-A9E7-65F6602E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2A6-1E1E-478B-93CB-142C4AC0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742-BF94-462E-B067-2D1CC103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171-A68B-48ED-91A2-F6E5C10B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D48-6906-473E-9AA2-0ACA5086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D454-78CB-4CE5-9C91-F46DA2AC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696-BE85-4721-BA10-5836C266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AD6-F46B-4364-AE75-14BDCD2A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74CA-1948-44FA-907D-5FE23742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17E-FE56-4215-9BE6-69926561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2F95-D737-48E9-81FC-BD5D9F77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0985-13F5-4960-9C86-DA0020708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Appl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pple trees sold nowadays are made up from two quite separate parts, which together form the complete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Cut apple image."/>
          <p:cNvPicPr/>
          <p:nvPr/>
        </p:nvPicPr>
        <p:blipFill>
          <a:blip r:embed="rId1"/>
          <a:stretch/>
        </p:blipFill>
        <p:spPr>
          <a:xfrm>
            <a:off x="7451640" y="4869000"/>
            <a:ext cx="14461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1T13:38:45Z</dcterms:created>
  <dc:creator>European Computer Driving Licence Foundation Ltd.</dc:creator>
  <dc:description/>
  <dc:language>en-US</dc:language>
  <cp:lastModifiedBy>ECDL Foundation</cp:lastModifiedBy>
  <dcterms:modified xsi:type="dcterms:W3CDTF">2008-06-03T17:14:33Z</dcterms:modified>
  <cp:revision>6</cp:revision>
  <dc:subject/>
  <dc:title>Slide 1</dc:title>
</cp:coreProperties>
</file>