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D994-408D-4420-8941-55734E0E6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5CDD-8427-4FEF-849E-FEED8FEB1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87B6-A31E-4EC0-9EF1-4ED46D589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BC0C-AC18-462F-ACD7-73D96BDBD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5D15-4DBD-4937-8BAC-F5A181729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C283-50E1-4D9B-AA7F-77CB82AC8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D0F1-3B14-43D9-B5C1-52817B4C2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9E43-909C-4DAF-9393-B514F692D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E963-CBB9-4CA0-B758-3921A887A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7E43-0006-4538-AE6B-4800E871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AD12-7D66-4760-9DAD-13A4DCA15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7429-3385-496E-9992-655F0F7A8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D03EB-CE84-47DE-A570-A6FFA711D8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e Varie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 Willi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pple Marketing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eties Produc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roseAntiq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roseAntique"/>
                <a:ea typeface="Times New Roman"/>
              </a:rPr>
              <a:t>BEAUTY OF K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roseAntiq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roseAntique"/>
                <a:ea typeface="Times New Roman"/>
              </a:rPr>
              <a:t>BLENHEIM OR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roseAntiq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roseAntique"/>
                <a:ea typeface="Times New Roman"/>
              </a:rPr>
              <a:t>CLAYGATE PEAR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roseAntiq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roseAntique"/>
                <a:ea typeface="Times New Roman"/>
              </a:rPr>
              <a:t>D'ARCY SP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roseAntiq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roseAntique"/>
                <a:ea typeface="Times New Roman"/>
              </a:rPr>
              <a:t>LAXTON'S FORTU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roseAntiq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roseAntique"/>
                <a:ea typeface="Times New Roman"/>
              </a:rPr>
              <a:t>RIBSTON'S PIPP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5T21:30:34Z</dcterms:created>
  <dc:creator>European Computer Driving Licence Foundation Ltd.</dc:creator>
  <dc:description/>
  <dc:language>en-US</dc:language>
  <cp:lastModifiedBy>ECDL Foundation</cp:lastModifiedBy>
  <dcterms:modified xsi:type="dcterms:W3CDTF">2008-05-28T13:25:35Z</dcterms:modified>
  <cp:revision>3</cp:revision>
  <dc:subject/>
  <dc:title>Apple Varieties</dc:title>
</cp:coreProperties>
</file>