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75E-A9FF-4B76-B240-C08706B5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CD0-9D35-4138-B045-A47056C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798-F395-4323-A5D6-3D4DAB97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29B-9A18-4EFA-B11A-2DB74D4B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9A8-7B28-404C-8672-278348E9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CFD-129B-4E3A-8779-FB7EC5E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6CC-48D4-499A-84F6-CCA395F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278-6280-45F0-9B04-0AF2F12F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BC8-4F2C-4A2B-ADA0-4E1D9619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6B5-0786-4255-AA55-66BB035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AD9-1D78-428B-A476-0149642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B9D-E774-4309-AE90-F035E0D4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5BC-64C1-45CE-ADC7-74B077B201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CDL / ICDL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file Test 6.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ndidate Identification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920" y="1916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ECDL Foundation</cp:lastModifiedBy>
  <dcterms:modified xsi:type="dcterms:W3CDTF">2008-05-30T11:01:35Z</dcterms:modified>
  <cp:revision>57</cp:revision>
  <dc:subject/>
  <dc:title>Module 6 Answer File 6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